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8C1C-C706-4173-80BF-3A7F9A034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F2B0-9F17-4F31-BA2B-46E47F3F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0E4FF-FB37-4B56-B6B7-85D29D9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1A18-3F29-4BE8-8708-14E50C36E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CFF4-CAFF-48C1-8327-8979E524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B233-9A15-4D75-B01C-97B4B8A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2AAF-75C7-463D-8588-EC822FED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4865-5BB0-4F3D-BF04-555E5704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0A61-75EE-4165-A80D-304AC0D3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ECFC-9F9A-47E1-8CEB-F2E024C8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CB35-BD8B-4BA8-9438-2F918295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8490-5283-4A3C-A35F-F1D40993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5A42-7C11-4249-9B84-54E03B0C3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1231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Fun Side of Delphi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pisode 1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o Cantù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un with the Web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bMeasles revisit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ealing sit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ggy-backing on Yaho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Let the Mail be with You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il messages as year 2000 status symb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y other email addicts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ow about a mail stats program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 to improv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bscribe to useless mailing lis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a useless mail generato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eb Bas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n your machine (or that of a friend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un with the Delphi ID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5 for Windows 3.1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5 for other OS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5 for Christma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CustomModule frenzin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etVerbCount, GetVerb, ExecuteVerb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alidateCompon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st from the past: the Alpha Men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we need one? I doub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you have questions? I hope no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eep your questions fo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Meet the Team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arco Cantù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author, Mastering Delphi 5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Delphi Developers Handb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iner, speaker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lphi OOP Applied” post-conferenc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ing real talks as well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ve fu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pisode 1: The “Madness” Men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(Doesn’t fully match the paper, but who cares?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y and Wh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nsense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less progra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rmful coding pract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session for “geeks”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rite complex code to solve simple task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e http://www.marcocantu.com/funsid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 past editions, code and a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Noth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rst component of the original Fun Side of Delph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e it running on Linux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w improved version: TFunAbsolutelyNoth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iding component na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dding a secret useless cod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EveryThingButTheKitchenSink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ensions of last year dataset plus data source compon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w also provides an embedded user interfa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 entire program in a compon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great step towards zero-flexib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where’s the kitchen sink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rom Sheeps to Cow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heeps revisit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You know, people even make money out of this stuf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ing Matild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ritten in Delph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uthors were paid and built a framewor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rom cows to mad c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un Side of Datase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directory-based datas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unds too serious? What about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 “infinite” datas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un with Win2000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AnimateWindow AP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Works also on 98, and you save the mone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mmering” Windows progra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000 Windows agai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t’s try it out on Linux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0:12:48Z</dcterms:created>
  <dc:creator>Marco Cantù rev</dc:creator>
  <dc:description/>
  <dc:language>en-US</dc:language>
  <cp:lastModifiedBy>Marco Cantù</cp:lastModifiedBy>
  <cp:lastPrinted>1998-04-22T20:30:46Z</cp:lastPrinted>
  <dcterms:modified xsi:type="dcterms:W3CDTF">2000-07-10T23:58:16Z</dcterms:modified>
  <cp:revision>37</cp:revision>
  <dc:subject/>
  <dc:title>3136 Object Pascal for  C++Builder Programmers</dc:title>
</cp:coreProperties>
</file>