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9B1B3-4A5B-477E-8088-076696CC83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BC67-71AD-40DE-A169-3633F76C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42730-5008-4657-A5FE-9E3FA1AF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5D5D6-4493-4E28-B770-DF38F9BACC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5E43-006A-45E6-BC5F-688E117D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0D21C-2922-4AA8-81D2-9278AE15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A1666-C4B3-4449-8730-D0B917DD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49FF8-F242-44BF-882D-E227ABF0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74E0D-989C-4A5D-94CB-C6B3C6CD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74F14-D0C1-4A1A-909E-895A2E12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5314F-80FE-41A1-8284-8B607243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1444-AE60-45D8-B382-00B6652E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152280"/>
            <a:ext cx="8686800" cy="1371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304280" indent="-26208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7521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9160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743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02A9-3C9E-4A4A-8109-4146485AE9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Logo_k" descr=""/>
          <p:cNvPicPr/>
          <p:nvPr/>
        </p:nvPicPr>
        <p:blipFill>
          <a:blip r:embed="rId3"/>
          <a:stretch/>
        </p:blipFill>
        <p:spPr>
          <a:xfrm>
            <a:off x="7715160" y="5819760"/>
            <a:ext cx="1428840" cy="103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276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Logo_k" descr=""/>
          <p:cNvPicPr/>
          <p:nvPr/>
        </p:nvPicPr>
        <p:blipFill>
          <a:blip r:embed="rId3"/>
          <a:stretch/>
        </p:blipFill>
        <p:spPr>
          <a:xfrm>
            <a:off x="7715160" y="5819760"/>
            <a:ext cx="1428840" cy="1038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indent="138240" algn="ctr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indent="16992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indent="5544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 indent="55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 indent="55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3214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Using Object Pascal in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++Builder Application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co Cantù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ww.marcocantu.co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ass References (1)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type holding a cla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ierarchy based type system (type compatibility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nipulate classes at runtim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e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TMetaclas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and the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TClas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pointer in C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edefined in the VCL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Class, ExceptClass, TComponentClas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FormClass, TFieldClass, TControlClass..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ass References (2)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s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s parameters (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Application.CreateForm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ll class methods, including virtual on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objects construc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ynamic objects constru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Class.Create (…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irtual constructor cal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hat the system does creating objec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m the DF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heritanc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ngle inheritan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mon base class,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TObjec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ngle huge hierarchy tre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arly binding is defaul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ate binding with virtual and dynamic directiv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stances of abstract classes allowed (but…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Properti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irtual data fields, mapped to data or metho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ngle notation, translated by the compil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ncapsulation to the max (don’t know what’s behind, can change it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rray properties, default (not supported in CB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ublished (design-time, RTTI support, OI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vents: properties with a method pointer type (closures in CB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RTTI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a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operator (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dynamic_cast in C++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operator (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TObject.InheritsFrom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in CB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xtended RTTI available TPersistent-derived classes (or compiler option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ublished: default visibil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source of all the goodies: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TypInfo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uni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treaming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a copy of the object’s data in memor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atus of the object = its published properti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aves (in a DFM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ublished properties and ev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on-default values, non stored fal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tra entries (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DefineProperties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ll references turned to names, fixed-up after reload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Using TObjec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ase class, type means any objec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nder, cast with as before us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w interesting metho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stanceSize, ClassName, ClassType, ClassParent…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pport for published fields and metho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terfac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erface = purely abstract cla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o data, all methods virtual abstract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operties mapped to method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herit IUnknown, must have IID (for querying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ach class: Single base class + multiple interfa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ference counting (see also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TInterfacedObject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legate implementation to sub-objec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t only for COM..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Windows Support Keyword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sourcestring directiv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nstant string mapped into RES fi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essage handl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essage directive, followed by numb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o need to use message maps built with macr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essage “cracker” record structur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haring Source Cod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ne way only: Pascal code in C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nits with functions, types, class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mporting creates a translated C++ header fi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nits with form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imited editing of DFM, use with form inherit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onents (very common, VCL included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lternative: compile Pascal code to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OBJ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Marco Cantù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lphi author, Mastering Delphi 5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d Delphi Developers Handbo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++ author, Borland C++  4.0 and OWL 2.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ainer, speaker..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act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ww.marcocantu.co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rco@marcocantu.co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ewsgroups (see web site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tegrating Compiled Modul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an use DLLs, COM, Automation (including MIDAS), and many other standard techniqu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est Borland-only approach: share packag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mplies sharing standard packages between exe and libra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ery good also for single language only 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ust be compiled in CB to generate extra support fil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d for components, but also for form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nclus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P and C++: same root, many subtle differen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P has Java influence (common ancestor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++Builder is a mix-in of OP and C++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TW, C++Builder includes an OP compiler for free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se together? Source and packag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s a cross-language project really worth the effort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Q&amp;A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el free to use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ww.marcocantu.com/home/newsgroups.ht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dvertising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dvanced Object Pascal in post-conference cla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roduction: Why Bother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bject Pascal vs. C++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Object Reference Mod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heritance and Interfa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indows Support Keywo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haring Source Cod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egrating Compiled Modul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troduction: Why Bother?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VCL is built in OP (language influenced design, and vice verse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anguage and library are almost mixed (where does TObject pertains? where TPersistent?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ascal RTTI is core for visual programming (properties, objects streaming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++Builder C++ extensions come from O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Object Pascal vs. C++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mon: OOP, strong typing, efficiency bia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++: more control, more complex, templates, widesprea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P: simpler, more readable, tuned for visual programm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Paper on my site comparing C++, OP, and Jav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Base Differenc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numerated and set types (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Se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template in CB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ative string type (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AnsiString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class in CB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ynamic, long, reference-counted, copied-on-writ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ative variants (a class in CB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nits: encapsulation and namespace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CU files: OBJ + symbo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horter compile and link ti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ersion specifi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Object Reference Model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bjects are are referen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ll objects are allocated on the hea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ame in C++Builder for VCL-based objec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dvantag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niform access, all parameters are referenc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o copy constructors, assignment operato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irtual method calls for every objec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oblem: Create and destroy each objec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Memory Managem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rect and manual creation and destru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reate, Free, Assigned, := nil (FreeAndNil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onents Ownership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reate (AOwner), TComponent.Destro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ference Count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ring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ynamic arrays(D4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terface objec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nstructor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structor keywor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ultiple multiple constructo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andard name is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Creat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fferent order for base class constructor cal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27640" indent="-307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P: you decide in code, derived to base cla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27640" indent="-307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++: compulsory, base class to derived cla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27640" indent="-307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++Builder: a mix-in of the two styl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15800" indent="-4158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olution: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 AfterConstru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8T10:12:48Z</dcterms:created>
  <dc:creator>Marco Cantù rev</dc:creator>
  <dc:description/>
  <dc:language>en-US</dc:language>
  <cp:lastModifiedBy>Marco Cantù</cp:lastModifiedBy>
  <cp:lastPrinted>1998-04-22T20:30:46Z</cp:lastPrinted>
  <dcterms:modified xsi:type="dcterms:W3CDTF">2000-07-11T17:48:52Z</dcterms:modified>
  <cp:revision>24</cp:revision>
  <dc:subject/>
  <dc:title>3136 Object Pascal for  C++Builder Programmers</dc:title>
</cp:coreProperties>
</file>