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00CED-1093-43DC-8F31-E3FBA95E39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1E635-BAE0-4FE1-A7AE-4688877C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8BF5F-2BF9-41AF-8405-C80E7D18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82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06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87013-FD18-427F-9F33-C07568991B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0200" y="228240"/>
            <a:ext cx="7315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ABA6C-CD65-4183-A43A-E8D88D0C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82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06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8FA6C-D4A0-43B6-968D-F70F9DB2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C7CE5-42CC-4437-9CB8-C1F8BD79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68FE0-8FBF-42D1-A68A-D68E7E45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00200" y="228240"/>
            <a:ext cx="7315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53906-D41E-45D6-BA70-44EC12C8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F6C67-F22F-4962-AA77-9FD95582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145E5-A12C-426E-A302-D49E5AB4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DE378-2B43-4515-B858-363DCD25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152280"/>
            <a:ext cx="8686800" cy="1371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0360" indent="-33444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304280" indent="-26208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7521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9160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916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916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2743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ADC1-ABE6-4218-9E34-93C682171C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Logo_k" descr=""/>
          <p:cNvPicPr/>
          <p:nvPr/>
        </p:nvPicPr>
        <p:blipFill>
          <a:blip r:embed="rId3"/>
          <a:stretch/>
        </p:blipFill>
        <p:spPr>
          <a:xfrm>
            <a:off x="7715160" y="5819760"/>
            <a:ext cx="1428840" cy="103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276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Logo_k" descr=""/>
          <p:cNvPicPr/>
          <p:nvPr/>
        </p:nvPicPr>
        <p:blipFill>
          <a:blip r:embed="rId3"/>
          <a:stretch/>
        </p:blipFill>
        <p:spPr>
          <a:xfrm>
            <a:off x="7715160" y="5819760"/>
            <a:ext cx="1428840" cy="1038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indent="138240" algn="ctr">
              <a:spcBef>
                <a:spcPts val="601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indent="16992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indent="5544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 indent="554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 indent="554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3258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Welcome to Linux: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A Guide for Win32 Programmer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rco Cantù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ww.marcocantu.co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Folder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/dev = device driv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/mnt = mounted devic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/home/myname = user’s files (also /root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/bin = commands et al (also in /usr/bin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/boot: kernel and boot fil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/ etc = system configur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/dev/null = a black ho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Do You Need a Command Line?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ell, you’ll need it, even if you are for graphic shells and file manag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nk of a “DOS on steroids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ultiple shells (“bash” is the most common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AB does word comple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mands can spawn separate processes (but you have to ask for it with “&amp;”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On Command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 algn="ctr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d” = go hom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ctr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ess” is “more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ctr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s -l” (/etc/.DIR_COLORS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XWindow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XWindow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ent / server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317600" indent="-264960">
              <a:spcBef>
                <a:spcPts val="601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rver is the display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317600" indent="-264960">
              <a:spcBef>
                <a:spcPts val="601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client is the program sending commands to the serv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etwork oriented, socket bas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tartx” command, but can be configured to start automatically, and offer you a graphical boo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KDE and GNOM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8840" indent="-4388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KD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73000" indent="-3243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K Desktop Environme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73000" indent="-3243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ore Windows-like look and feel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73000" indent="-3243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uilt with Qt (C++ oriented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38840" indent="-4388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GNOM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73000" indent="-3243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GNU Network Object Model Environme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73000" indent="-3243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RBA foundat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73000" indent="-3243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otally built with open source code (C oriented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o-existing with Window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T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TT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amba (watch out for Win2K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Programming…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ait for Kylix, don’t try it now!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bject Pascal and Linux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ase” of a clas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et’s try out: unit names, uses cases, resource extension cases… looks almost as bad a C++!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ny low level differences, looks familiar on top of the VCL/CLX (or I’m told it will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onclusion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art experimenting ASA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00$ and you are in busines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ith vmware plus a distribu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f you have a spare computer (even if old), turn it into an actual serv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et your friends know: we need more people to compete with MS!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Q&amp;A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Questions? I’ll hardly know the answer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eel free to use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ww.marcocantu.com/home/newsgroups.htm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dvertising: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dvanced Object Pascal in post-conference clas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Marco Cantù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lphi author, Mastering Delphi 5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nd Delphi Developers Handboo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inux novice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rainer, speaker..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tact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ww.marcocantu.co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arco@marcocantu.co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ewsgroups (see web site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rst step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pproaching Linux… in different way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Few Key Concep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o you need a command line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XWindows and KDE (and Qt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-existing with Window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ogramming…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97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 Narrow"/>
              </a:rPr>
              <a:t>                  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 Narrow"/>
              </a:rPr>
              <a:t>(not very technical…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Why Linux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9480" indent="-429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o you want to hear the story again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9480" indent="-429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t’s free (more or less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9480" indent="-429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t’s growing fas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55000" indent="-31752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indows cannot grow so much having 95% of the desktop OS marke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29480" indent="-429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t’s not from Microsoft, so it won’t ever crash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9480" indent="-429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nd so on… I believe this Linux “marketing”, I’m just hearing it too much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First Step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379440" indent="-379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hoose a distribu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54920" indent="-2804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you don’t want to compile the Kernel, do you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54920" indent="-2804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dHat, SuSE, Mandrake, Debian, TurboLinux,Corel..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79440" indent="-379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wo operating systems are better then on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54920" indent="-2804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 other words, look into VMWa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79440" indent="-379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nd a friend who knows… but then don’t trust hi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54920" indent="-2804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KISS doesn’t always apply for Linux die-hear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79440" indent="-379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Good hardware doesn’t har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54920" indent="-2804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pecifically for VMWare..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Approaching Linux…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nd your goal firs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o you want to learn everything about Linux first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f you use Windows, and not DOS, choose a desktop environment, not the command lin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en programs are better than one, but you get los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aving many alternatives is good, but you should learn to live in a different worl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pen Source is a different world, and with wide differences inside (from GNU to mild licenses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A Few Key Concept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oot and regular accounts (do you need both?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deamon is like a servic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tarts by itself and wait for something to happe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gzip &amp; tar: compression + concaten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On File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les have permissi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ad / write / execute (no EXE, sorry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wner / group / othe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o extension for executable fil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ymbolic links (shortcuts on steroids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lename starting with “.” for hidden config. fil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Shared Librarie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ike DLLs (more or less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ystem libraries can be used in both ways (not in WIndows!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ip: ldd lists shared libraries required by an EX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arches in /lib, /usr/lib, in LD_LIBRARY_PATH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Versioning: mayor + mino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mpatible for “minor” chang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ymbolic links to library vers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8T10:12:48Z</dcterms:created>
  <dc:creator>Marco Cantù rev</dc:creator>
  <dc:description/>
  <dc:language>en-US</dc:language>
  <cp:lastModifiedBy>Marco Cantù</cp:lastModifiedBy>
  <cp:lastPrinted>1998-04-22T20:30:46Z</cp:lastPrinted>
  <dcterms:modified xsi:type="dcterms:W3CDTF">2000-07-12T06:34:00Z</dcterms:modified>
  <cp:revision>26</cp:revision>
  <dc:subject/>
  <dc:title>3136 Object Pascal for  C++Builder Programmers</dc:title>
</cp:coreProperties>
</file>