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A846-6DF4-46B5-B9B5-0E60AE89DD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39AA-DBC9-42D2-888C-272B93A1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53CA-76A1-4DED-807D-89F12491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966B-6DD4-413A-8280-92F4CB7D0F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96EA1-264D-41DA-A833-0660EF8E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64E5-D998-4821-A07B-AA057BE6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AA089-EE31-4751-A1B6-40C8FBEE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0F86-FAB0-4C96-B469-75531F3B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4926-A261-425F-8913-0D7B4472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2307-3F2E-4379-948D-2A4E1729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0CE2-02E1-4B2E-A6F2-29A53CF7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5D562-490E-4B1C-BEDE-98882FE3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04280" indent="-26208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7521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9160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9DBD-8224-49DD-B122-0BC9B56D8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276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indent="138240" algn="ctr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indent="16992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indent="5544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4106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dvanced VCL Component Building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o Cantù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ww.marcocantu.co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Using TFieldDataLink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eld oriented control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ad-only, read-write examp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reate link in constructor (+ destructor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pose properties: DataSource, DataField, Fiel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ndle events: OnDataChange, OnUpdateData, OnActiveChange..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pdates: send notification, wait for data request, force upda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ustom Data Link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cord-oriented controls (incl. table-oriented one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verride methods instead of handling ev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rong binding with the control cla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ample: custom grid, one record at a ti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Replication Suppor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r hosting in DbCtrlGrid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ne actual component, multiple fake o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quired step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sReplicatable control sty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ndle cm_GetDataLink message, returning a pointer to the data lin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ustomize Paint (supporting the TPaintControl idea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llection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iner of TPersistent objects of a given typ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herit from TCollectionItem and TColle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ound passing item class to collection constructo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verride GetOwner for design-time edito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anged calls Update (to override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ction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herit from TAction cla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ndleTarget (whether to activate action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pdateTarget (update U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ecuteTarget (do something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gisterAc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pecial last parameter: data module used to clone actions, for default valu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nclus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re is still a lot more, these are key elem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: custom messages, custom datasets (see talk) Open Tools API (see talk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ery little coverage in book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 the source..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Q&amp;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el free to use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ww.marcocantu.com/home/newsgroups.ht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dvertising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vanced Object Pascal in post-conference c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ound Compon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reaming, Loading, and Statu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ata-Aware Contro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llec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c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Marco Cantù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phi author, Mastering Delphi 5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Delphi Developers Handbo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ainer, speaker…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dvertising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“Effective OOP in Delphi” post-conf. cla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c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ww.marcocantu.com -- marco@marcocantu.c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wn newsgroups (see web site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mpound Compon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rnal compon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ome properties / events surfaced by hos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ternal compon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mply a link, defines interac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s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onent contain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ram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ternal Compon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reated and destroyed by container compon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verride constructor (and destructo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Persistent objec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be surfaced in propert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vents handled internall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Component objec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surface specific propertie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vents handled internally or surfac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xternal Compon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ore a reference to another component, surfaced with a proper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ways check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if Assign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andle destruction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Notific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ll FreeNotification (for cross-module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mponent Container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rolStyle: csAcceptsContro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reaming problems when sub-component is owned by contain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ll GetChildren to define sub-stream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-own the components after they’ve been load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treaming, Loading, and Statu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onent and Control have Status and Sty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atus changes over ti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yle is fix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teworthy: csAcceptControls control style, csLoading and csDesigning component statu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oaded: after all properties have been load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ustom Streaming: DefineProperties / DefineProper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ata-Aware Control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nection to data-source through TDataLin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64000" indent="-3211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i-directional communic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64000" indent="-3211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rived (ready-to-use) TFieldDataLink for field oriented contr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64000" indent="-3211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therwise derive your own c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-434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rface DataSource (and DataField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-434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(Aside: Notification issue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8T10:12:48Z</dcterms:created>
  <dc:creator>Marco Cantù rev</dc:creator>
  <dc:description/>
  <dc:language>en-US</dc:language>
  <cp:lastModifiedBy>Marco Cantù</cp:lastModifiedBy>
  <cp:lastPrinted>1998-04-22T20:30:46Z</cp:lastPrinted>
  <dcterms:modified xsi:type="dcterms:W3CDTF">2000-07-11T20:24:13Z</dcterms:modified>
  <cp:revision>15</cp:revision>
  <dc:subject/>
  <dc:title>3136 Object Pascal for  C++Builder Programmers</dc:title>
</cp:coreProperties>
</file>